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58F-6A1D-40BB-998B-1A248BB7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ABA-040A-44F4-B8A4-2D14B3A6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46D-153C-4BCC-9436-D953081C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12E-661C-4B7A-B2B8-7CC34DC4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6ED-0D0E-43A9-AF04-450FAAF3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D1A-2380-4AAF-B7C7-6D6C04FA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411-FB5C-4A65-A03D-56D7318C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74D-15D6-46C4-B0C5-0A5C3D64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839-9861-4372-9A54-A56FBDAE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AAB-0924-4BCB-B995-16410212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1418-8017-432E-903F-6EAE51C0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DB88-0D46-4845-9B07-92086015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8019-851A-49E5-AF34-ECBE6184C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3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slide" Target="slide9.xml"/><Relationship Id="rId25" Type="http://schemas.openxmlformats.org/officeDocument/2006/relationships/slide" Target="slide9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8.xml"/><Relationship Id="rId29" Type="http://schemas.openxmlformats.org/officeDocument/2006/relationships/slide" Target="slide7.xml"/><Relationship Id="rId30" Type="http://schemas.openxmlformats.org/officeDocument/2006/relationships/slide" Target="slide6.xml"/><Relationship Id="rId31" Type="http://schemas.openxmlformats.org/officeDocument/2006/relationships/slide" Target="slide6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20.xml"/><Relationship Id="rId35" Type="http://schemas.openxmlformats.org/officeDocument/2006/relationships/slide" Target="slide20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2.xml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A:\g1logo.gif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perpendicular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4419720" y="1905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32004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equilateral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581280" y="2590920"/>
            <a:ext cx="1905120" cy="1447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20040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parallelo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2819520" y="2438280"/>
            <a:ext cx="3962160" cy="1600200"/>
          </a:xfrm>
          <a:prstGeom prst="parallelogram">
            <a:avLst>
              <a:gd name="adj" fmla="val 61901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cute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4038480" y="1752120"/>
            <a:ext cx="14479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intersecting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3200400" y="2133360"/>
            <a:ext cx="274320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3276720" y="2590920"/>
            <a:ext cx="3124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990720" y="9907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ight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3809880" y="1752480"/>
            <a:ext cx="2667240" cy="2438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04812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trapezo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971800" y="2209680"/>
            <a:ext cx="3048120" cy="1600200"/>
          </a:xfrm>
          <a:custGeom>
            <a:avLst/>
            <a:gdLst>
              <a:gd name="textAreaLeft" fmla="*/ 635040 w 3048120"/>
              <a:gd name="textAreaRight" fmla="*/ 2413080 w 3048120"/>
              <a:gd name="textAreaTop" fmla="*/ 333360 h 1600200"/>
              <a:gd name="textAreaBottom" fmla="*/ 1266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a right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V="1">
            <a:off x="4114800" y="21333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4114800" y="3581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352680" y="2361960"/>
            <a:ext cx="2895840" cy="1523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cute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304812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3733920" y="2514600"/>
            <a:ext cx="1904760" cy="17524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drilat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qu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581280" y="1981080"/>
            <a:ext cx="221004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traight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4495680" y="3276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"/>
          <p:cNvSpPr/>
          <p:nvPr/>
        </p:nvSpPr>
        <p:spPr>
          <a:xfrm flipH="1">
            <a:off x="259056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2895480" y="304812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calene triang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4038480" y="2133720"/>
            <a:ext cx="1646280" cy="236196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276720" y="12193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35268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ect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3200400" y="2286000"/>
            <a:ext cx="2819520" cy="1523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12300"/>
              <a:gd name="adj2" fmla="val -10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erte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"/>
          <p:cNvSpPr/>
          <p:nvPr/>
        </p:nvSpPr>
        <p:spPr>
          <a:xfrm flipV="1">
            <a:off x="3429000" y="182844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34290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2362320" y="26668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1440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parallel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3200400" y="22096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3200400" y="274320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isosceles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733920" y="1981080"/>
            <a:ext cx="2103480" cy="237816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276720" y="1447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342900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homb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3581280" y="2362320"/>
            <a:ext cx="1981440" cy="1447560"/>
          </a:xfrm>
          <a:prstGeom prst="parallelogram">
            <a:avLst>
              <a:gd name="adj" fmla="val 3422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obtuse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 flipH="1" flipV="1">
            <a:off x="2819160" y="1904760"/>
            <a:ext cx="114300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396252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kim.nelson Nelson</cp:lastModifiedBy>
  <dcterms:modified xsi:type="dcterms:W3CDTF">2012-01-12T01:36:56Z</dcterms:modified>
  <cp:revision>4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